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EB730-138D-4BE4-B8B6-695567127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CA22E-88CD-416C-B524-3C3D4AF173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DE87-CA6F-4B33-B5FE-D1522DFDD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23F1-E8F0-4404-A1AE-98B08C476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4412-85EF-4E44-A9CF-2159B42F8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A7E8-3E6C-4C38-9BAC-92F0DDDC0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4A62-6935-43B6-A98E-9B4C5E887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4A1A-F04F-4B80-8941-483F782F5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DB2E-0B50-4381-8282-523DABC05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0D4A-A837-4426-A035-81BD7A852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64D2-E809-4AFB-8314-13170D350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B817-6F2E-4FD0-A57A-3EA6259D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C430-0799-42FE-81C6-00EDC2EE3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4B05-F1DB-497C-A9F1-BB789BE1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30F84-0E9F-4C75-8CF4-B8F50F8C70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-304920" y="12952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ayra Quiñóne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Mayra Quiñónez 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Mayra Quiñónez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Mayra Quiñónez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05120" y="1752480"/>
            <a:ext cx="495288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Buenos días ¿Cómo están todos?  Yo estoy muy feliz porque el día esta muy bonito ¿ Que van hacer hoy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1981080" y="1523880"/>
            <a:ext cx="236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724280"/>
            <a:ext cx="167652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48640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600200" cy="8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Hola mi nombre es Mayra. Vivo en Astoria, New York con mis dos hermanas y con mi hermano. Tengo catorce años. Yo soy alta pero soy calmada y penosa también. Mi familia es muy importante para mi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28520" y="5102280"/>
            <a:ext cx="657360" cy="94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17560" y="5102280"/>
            <a:ext cx="554040" cy="79200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4864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28520" y="5711760"/>
            <a:ext cx="554040" cy="79236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27040" y="5102280"/>
            <a:ext cx="451080" cy="94464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4864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09960" y="2511360"/>
            <a:ext cx="480960" cy="944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09960" y="3273480"/>
            <a:ext cx="577800" cy="834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09960" y="3803760"/>
            <a:ext cx="480960" cy="9507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5105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o quiero ir a ver una película de acción por que yo estoy muy cansad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5029200" cy="53316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Que tal. ¿ Cual película quieres ir a v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.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36880" y="4492800"/>
            <a:ext cx="650880" cy="9442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5105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o estoy muy bien el día esta muy bonito  ¿ Quieren ir a ver una película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sta : Co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5105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o soy muy enérgica me gusta los deportes y si estoy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109960" y="5175360"/>
            <a:ext cx="480960" cy="9507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518184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2036880" y="6016680"/>
            <a:ext cx="650880" cy="9446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5943600"/>
            <a:ext cx="5105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sta: Comentario 5 sec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74320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71500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609588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6T14:28:51Z</dcterms:created>
  <dc:creator>FriscoISD</dc:creator>
  <dc:description/>
  <dc:language>en-US</dc:language>
  <cp:lastModifiedBy>NYCDOE</cp:lastModifiedBy>
  <dcterms:modified xsi:type="dcterms:W3CDTF">2012-12-06T14:57:16Z</dcterms:modified>
  <cp:revision>108</cp:revision>
  <dc:subject/>
  <dc:title>Profile</dc:title>
</cp:coreProperties>
</file>